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52E-0AAF-4C18-9519-4E1F8996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E5D-509B-46CE-ADC0-1F2A6EC7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E2C-563C-46EA-BDA4-AFE10556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8C8-2EF9-444F-961F-91BBB30E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EAD-89EF-4D3B-BD19-0FE969B8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406-F539-456C-8452-6D2D1562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F3C-3A53-4644-BD4C-A34AF638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363-D463-4ABC-AFD9-5502CD00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612-4C16-4548-A6B0-A91A7738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96A-09C7-4255-B2D1-44845A7E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C06-13BB-4012-A808-9812DA82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5D4-0303-493D-8B3E-D928DE5B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FF45-6F8F-4005-ADCC-4A4FB74A7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4282920"/>
            <a:ext cx="854712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1960" y="5806800"/>
            <a:ext cx="710748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Arial"/>
              </a:rPr>
              <a:t>Introduction to Ge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54120" y="592200"/>
            <a:ext cx="51771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46000" y="1184400"/>
            <a:ext cx="87012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9200" y="512640"/>
            <a:ext cx="938376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NOTYPE  -  what genes, letters, the organism has (TT, Tt, tt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HENOTYPE   - what it looks like (tall or short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8120" y="3860640"/>
            <a:ext cx="42829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15920" y="1523880"/>
            <a:ext cx="7631280" cy="572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00" y="304920"/>
            <a:ext cx="81327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's review what you know about genetics...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7680" y="203040"/>
            <a:ext cx="9545760" cy="68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for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  A one-eyed purple people eater is crossed with a two eyed purple people eater.  All of their offspring have two eyes.   Which trait is domin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  If you use the letter E for th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.   What is the genotyp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ffspring?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 offspring the F1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2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  If you crossed the offsp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ach other?  How many ofthe new offspring would you expect to have two ey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12160" y="2743200"/>
            <a:ext cx="237636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46160" y="309240"/>
            <a:ext cx="9780480" cy="69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re chec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5.   The passing of traits from parents to offspring is known as  ___________________________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  Who was the father of genetics?  __________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.  A single gene will code for a _______________, such as flower co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.  Every gene is made of two ______________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8080" y="50760"/>
            <a:ext cx="9309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ho was Gregor Mendel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" y="1066680"/>
            <a:ext cx="90550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was known as the “FATHER OF GENETICS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discovered how traits were inher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2160" y="2844720"/>
            <a:ext cx="439740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NE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study of hered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ERED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the passing of traits from parents to offsp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94360" y="3352680"/>
            <a:ext cx="29386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’s P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50920"/>
            <a:ext cx="9223200" cy="42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ndel did his study on pea pla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 plants have many traits (tall/short, purple flowers/white flower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 plants can be</a:t>
            </a:r>
            <a:br>
              <a:rPr sz="4200"/>
            </a:br>
            <a:r>
              <a:rPr b="0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self-fertilized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4200"/>
            </a:br>
            <a:r>
              <a:rPr b="0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-fertiliz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8000" y="3132000"/>
            <a:ext cx="39070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8080" y="30456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ypes of Pla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600" y="1405080"/>
            <a:ext cx="913896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rue-Breeding - these plants always create plants that look like themselv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ybrids – offspring of true-breeding pla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all x Short = Hybri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488960"/>
            <a:ext cx="905508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me traits are dominant over others.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ll x Short = all tall offspring (hybrids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*Tall is the 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dominant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trai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* Short is 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recessiv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s and Alle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2600" y="1828800"/>
            <a:ext cx="9055080" cy="30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ndel discovered that each trait is controlled by two factors (allele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s – factors that determine your trai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03040"/>
            <a:ext cx="896472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endel’s Experim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7162920"/>
            <a:ext cx="3043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the cr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xplaining the Cro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2600" y="1822320"/>
            <a:ext cx="916596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parent makes sperm or eggs, their genes separ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     (PRINCIPLE OF SEGREG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AMETES (egg or sperm) contain either 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ele (tall) or 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ele (sho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67360" y="5792760"/>
            <a:ext cx="17539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95560" y="104760"/>
            <a:ext cx="5968800" cy="74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